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661-6504-427B-800A-001305FE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868D-13D6-46B7-A53F-91E18300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232-5891-4C15-8C51-A776AC28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FC9F-416C-4331-BE44-725BDD91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10C4-C620-434F-B1E9-B6E9CA85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EE0-3F58-4387-8183-D4CEE881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0E4-08B8-44B4-B856-9D97C358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241-8A9A-4E65-B8D8-72FF1D7A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DF6-5E27-44BA-8881-CA548A12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8ED9-F163-4C4E-9734-3365AA0A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C682-5852-4B9B-AD44-90B3355B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8B4-FD74-49DD-B9ED-CAFB492F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2964-810F-4DA0-8B08-1E708981B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ansrossel.com/fotos/fotografie/rusland/rus_d3412_std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Kam%20Mountains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ccff99"/>
                </a:solidFill>
                <a:uFillTx/>
                <a:latin typeface="Arial"/>
              </a:rPr>
              <a:t>Russia’s Awesome L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By: Leanne Gough and Vincent Le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russia-flag"/>
          <p:cNvPicPr/>
          <p:nvPr/>
        </p:nvPicPr>
        <p:blipFill>
          <a:blip r:embed="rId1"/>
          <a:stretch/>
        </p:blipFill>
        <p:spPr>
          <a:xfrm>
            <a:off x="-38088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Impact"/>
                <a:ea typeface="Ginga&gt;"/>
              </a:rPr>
              <a:t>Why Russia’s Land is B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Console"/>
              </a:rPr>
              <a:t>Much of it’s land is mountainous and hard to work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Console"/>
              </a:rPr>
              <a:t>The West Siberian Plains is muddy and mushy with many rivers flowing throug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Console"/>
              </a:rPr>
              <a:t>Russia’s livable land is extremely lim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putorana_plateau_w480"/>
          <p:cNvPicPr/>
          <p:nvPr/>
        </p:nvPicPr>
        <p:blipFill>
          <a:blip r:embed="rId1"/>
          <a:stretch/>
        </p:blipFill>
        <p:spPr>
          <a:xfrm>
            <a:off x="-685800" y="0"/>
            <a:ext cx="11201400" cy="68612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Memo Script SSi"/>
              </a:rPr>
              <a:t>Central Siberian Platea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Memo Script S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emo Script SSi"/>
              </a:rPr>
              <a:t>Lake Baikal the deepest freshwater lake is on this plat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Memo Script S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emo Script SSi"/>
              </a:rPr>
              <a:t>Many people travel this plateau to see this lake which can be difficult with it’s cl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50"/>
                            </p:stCondLst>
                            <p:childTnLst>
                              <p:par>
                                <p:cTn id="2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ncent Leung for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nne Gough for gathering info and first half of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ncent Leung for second half of PowerPoint and gathering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Griffith for giving us this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ncent Leung for cr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nne Gough for so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5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5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5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5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ountain 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odoni MT Black"/>
              </a:rPr>
              <a:t>Russia is huge! Its land is so big, it runs on two continents! Russia runs on both Asia and Europ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odoni MT Black"/>
              </a:rPr>
              <a:t>The Ural mountains divide these. Western Russia contains two mountain ranges. The Ural Mountain Range and the Caucasus Mountain Ran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305px-VittfarneGeorgien_155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itannic Bold"/>
              </a:rPr>
              <a:t>Ural and Caucasus Mount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U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Not very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eparate Russia and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Caucas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eparate Southwest Asia and Southwestern Russia from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aller than the Ural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Covered in different types of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small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auhaus 93"/>
              </a:rPr>
              <a:t>Inland Water Bod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ussia, there are rivers, the largest sea in the world and some can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russian_river_cle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roadway"/>
              </a:rPr>
              <a:t>Rivers and Hugeness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re are many rivers in the West Siberian Plain that run over frozen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Caspian Sea is the largest inland body of water in the water in the wor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ussia shares the Caspian Sea with four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unapixel"/>
                <a:ea typeface="Yunapixel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l- mountains and rough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-has very hard wi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-bad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land-the problem with large land is that Russia’s army will have to protect more land from invasion and there will need to be more c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92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192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192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192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92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192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192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192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92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192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192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192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92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192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192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192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ueol_03_img0099"/>
          <p:cNvPicPr/>
          <p:nvPr/>
        </p:nvPicPr>
        <p:blipFill>
          <a:blip r:embed="rId1"/>
          <a:stretch/>
        </p:blipFill>
        <p:spPr>
          <a:xfrm>
            <a:off x="-762120" y="0"/>
            <a:ext cx="10439640" cy="6861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e home of Siberian Tiger, the West Siberian Plains is one of Russia’s major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orth European Plains lie in the northwest part of massive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SiberianTigerCub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line Dion Handwriting"/>
              </a:rPr>
              <a:t>West Siberian Pla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orte"/>
              </a:rPr>
              <a:t>The world’s largest flat land in the world, the West Siberian Plains making it long to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orte"/>
              </a:rPr>
              <a:t>Home to the Siberian Tiger which few live in the wild as of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orte"/>
              </a:rPr>
              <a:t>The many rivers in the plain make the land muddy and wet in many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orte"/>
              </a:rPr>
              <a:t>People can only live effectively in the southern part of this pl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poland2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line Dion Handwriting"/>
              </a:rPr>
              <a:t>North European 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bri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brielle"/>
                <a:ea typeface="Gabrielle"/>
              </a:rPr>
              <a:t>Most of Russia’s small population lives in this south of this p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bri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brielle"/>
                <a:ea typeface="Gabrielle"/>
              </a:rPr>
              <a:t>Russia’s most mild climate only is in this small area leaving the rest unfavorable climat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bri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brielle"/>
                <a:ea typeface="Gabrielle"/>
              </a:rPr>
              <a:t>Moscow resides in the North European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8:57:06Z</dcterms:created>
  <dc:creator> </dc:creator>
  <dc:description/>
  <dc:language>en-US</dc:language>
  <cp:lastModifiedBy>Your User Name</cp:lastModifiedBy>
  <dcterms:modified xsi:type="dcterms:W3CDTF">2010-12-21T12:27:12Z</dcterms:modified>
  <cp:revision>11</cp:revision>
  <dc:subject/>
  <dc:title>It’s Always Tougher n Russia</dc:title>
</cp:coreProperties>
</file>